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7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07C-7EAF-4C60-9099-653A6272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B37-0686-42E3-8531-12A98E98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146-D61E-42F1-9108-07D66FF8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79E-EFE6-4A51-8DD1-FAACD151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6854-6F71-4113-A4D8-E41AF841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8088-A18F-4F35-A945-056D7850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209B-0DF0-4DE1-A758-C63061F5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66D1-341F-4940-8DAB-15F4DD42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F876-7D84-46BF-89D9-99BC3C69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D4F2-C156-4819-9A74-FFC9BFF7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FB25-2CBD-48E6-BD68-85AE8F8F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A77-60B3-4E85-BB19-D442D7BC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8BC6-BC33-4917-9D63-77A5C5FC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A7F3-51D1-436B-B4AB-9E70B219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6A3D-EBA5-4498-B24D-5624588F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AC11-2AD7-40F9-A762-3968655D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2AED-FE48-45B8-A74D-B4D490A2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30C-E43E-4BCE-B831-D2876D8E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8ED-4C5F-4F05-85E3-2229DC4E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D8B-9BCC-4484-8ECC-2C21F553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2FE-544B-4EC4-835E-C835D53F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606-B72B-4519-A981-F59E24E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73A-D40D-4C3D-BA99-266594C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490-D7F3-421F-85F7-3D2547C1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9295-EFD5-4683-A3A1-9FFD60F8DCFD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544A-493E-4070-80A0-95ADA50D39EF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87280" y="620640"/>
            <a:ext cx="684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6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减慢食物变质的速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00720" y="6381720"/>
            <a:ext cx="4432320" cy="1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360" y="90792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、观察变质的食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05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你吃过鱼干吗？味道怎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96000" y="3278160"/>
            <a:ext cx="4248000" cy="357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7632720" cy="207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20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新鲜的小鱼干和腐败的小鱼、干面包和发馊的面包，有哪些不同的地方？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78144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42900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小鱼为什么在短时间里腐败了？鱼干为什么能长时间地保持好闻的气味？</a:t>
            </a:r>
            <a:endParaRPr b="0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腐败的小鱼、发馊的面条与发霉的面包有哪些相似的地方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60280"/>
            <a:ext cx="172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储存食物的各种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我们已经知道引起食物变质需要有一定的空气、水分和温度等条件，如果要储存一条新鲜的小鱼，可以用什么方法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99736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小组讨论交流，并说说运用这种方法储存食物的理由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9337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食品罐头为什么可以用这种方法能储存食物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465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还知道哪些储存食物的方法？为什么这些方法能减慢食物变质的速度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5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讨论：你还能用什么方法来储存食物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44800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237672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4869000"/>
            <a:ext cx="237636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69120" y="263700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晒成鱼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0560" y="400536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用盐腌成咸鱼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1880" y="53737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做成罐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0560" y="112536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放进冰箱冷冻</a:t>
            </a: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0"/>
            <a:ext cx="367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储存一条鱼的方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100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 Narrow"/>
              </a:rPr>
              <a:t>同一种食物，我们可以用多种不同的方法来减慢它的变质速度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507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判断题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食物的腐败变质是由微生物的大量繁殖引起的。（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微生物的生长与繁殖，需要空气、水分和适宜的温度。（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闻变质食物的气味时，要扇闻，并尽量少闻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用冷冻、晒干、真空包装等方法，能减慢食物变质的速度。其原因是破坏了微生物生长所需的条件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260280"/>
            <a:ext cx="352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06960"/>
            <a:ext cx="8280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填空：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食物的腐败变质是（            ）引起的。使面包发霉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霉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就是（        ），还有许多肉眼看不见、用放大镜也看不见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细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，也是（           ）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微生物的生长与繁殖和植物、动物一样，需要一定的条件。在（         ）的环境里，它们能很快地繁殖。越来越多的微生物分解、吸收食物中的（       ），同时排出（      ），使食物不再是原来的样子，食物（               ）了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3:54:43Z</dcterms:created>
  <dc:creator>雨林木风</dc:creator>
  <dc:description/>
  <dc:language>en-US</dc:language>
  <cp:lastModifiedBy>微软用户</cp:lastModifiedBy>
  <dcterms:modified xsi:type="dcterms:W3CDTF">2010-02-18T13:46:21Z</dcterms:modified>
  <cp:revision>12</cp:revision>
  <dc:subject/>
  <dc:title>幻灯片 1</dc:title>
</cp:coreProperties>
</file>